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ADEF-8E1A-4B8F-AC00-682F357F5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B7E7-801F-495B-B806-F87019ABA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E5AB-2E5D-4249-84F8-78758C254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76A0-4E0F-496A-BDE7-C208325D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E8C2-6C49-4B9A-8630-ABB72234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0D6C-C947-408D-98F8-73FDF9EC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D54F-BC3B-420A-8197-59A97AC21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91A5-C5C1-4D39-9618-2F77F5C2E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CF16-2E8D-4952-AD7C-601EC42FD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6BED4-4A07-42E8-A232-2559DBCF4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3ACE-3FBD-4787-9CA2-37D2D8BD4DC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84B6D-4283-4D94-B6AE-FFBC400912D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9BA11-4A98-4356-BFE9-FC2B225C5E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55588-5D3B-4267-B286-45FF8CF429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344D1-4D1B-4DF8-8EEE-C552B0C62D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E7BBB-8F55-4E6E-BFCE-D1701361FE9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ACB9E-FCB5-4BD6-BCEE-2010CFD0C9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ABF1-8F49-4EE4-8CF6-2298150CFAF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00FAB-1FF3-4ABE-A83F-ADC5EB6391B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C758E-DD1A-40AB-86A1-3A0C64B707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29CC5-1914-4BC6-B8B8-9074A8AE9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0C0E-0590-43BC-95BB-0EE733A8286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6C35A-D50C-4F8B-9AE7-A5FA16DFAF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A9ACA-3F93-44F7-B9B6-5D9A7A60E0F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97926E-CEA6-4D80-99E2-C8C684D4770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075D84-ECE1-42A1-8EEA-8FDDF919FE1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F61E3-8D37-40C2-B9C2-DFF398C1498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C2655-75FF-469E-9735-1EA26993279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62EC6-F245-4F13-84BE-94D28B979E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59981-77CA-4922-A6DF-6C8987A7D82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A9658-66C0-47D2-B372-55906B4F483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4A45F-8550-487E-8B1D-CCC4EB996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8017-1502-4A0E-B1A8-B3F5A51A194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7D9B3-1360-441C-BDD5-A726BAB04F8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E8B532-FE20-4572-BAFF-1ABA0FDAD8E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4C3860-74D1-4665-88D8-8761E75E25E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D18835-7F6A-4D1A-93BC-31C1823CCFD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14DC08-2C2C-4840-96F3-8700867DF72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96AAB6-1284-4005-86D3-36F69C61748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E9E833-6BE3-4E7C-A1D1-C87CA0F8C9D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73899F-5459-410C-A1EE-53BFDEA50A9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5970C-4EEF-4BDD-943B-ACFE60F520E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2FA84A-9E82-4F60-961F-0E4D53E4F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A6D70-BF67-48B5-9222-99DEED5F7B1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A8551A-2C57-4EB0-9D98-6972A16E8F9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88B1B8-777A-4ACB-85BD-9B9E4C7AB1B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D871FE-000C-41E6-A37D-96228B6CCF9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E3C77-0541-4ABC-AA40-A52798B9C97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E6C2C-16D1-4F08-B1E1-700DE2F5AD3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D2B9-3915-42F2-BCA9-2AF3CD6B6A8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20599-93AE-4903-BF56-E6EB39BC56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1D554-4E0B-4D48-AF9F-D0C5F35796A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7244A-6BB0-4DEB-8220-8ED82CF9030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F3F96-82F5-4CD2-8CBA-9C8C003F47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2001F-FC2F-4552-9048-146879F6DFF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6B3EE-5441-48BC-8ABE-0A088AFCBDE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8C29D-E68E-4649-906D-15757174D66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6DB5E-B030-4CD9-A4AA-49BF3D32728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D8649-117B-45EC-AEC0-BD7E49384FE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C113A-1320-4575-B44C-E0E2800FB7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D85B6-E0C7-4353-BEAC-5EC21C558B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A1A16-7337-4567-B12E-3DA93839F9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FAF08-A432-4ED3-838F-ADDCD6D6D9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FCFF0-016A-4274-A6B5-EEB4676CB8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4DFF3-5DA5-4A93-A357-E683F15A33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7B27-4966-4C1C-BF08-831370FE0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5031B-19D2-4D0A-8B10-296800DF34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F50EA-81FE-46A3-81BC-78B4068B4D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1CC15-C2C0-479C-BD6D-AF6396C4BB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E225D-09BD-443C-8D48-A860034C43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A7F61-2038-483E-A7D1-66C30F1AEC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D4FC-FB9A-449A-8821-62CC23C6DD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AE25-DB3A-4D29-BBFF-E01295C7CE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DD53-4EE9-4D60-8442-6225994AB1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3562-255D-4890-853B-67015C9F9E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F4BB-927A-4420-A98A-3E2A7A982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6695-F8E9-41A0-BB0B-51A5CF6F90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0193-5446-40A4-B556-FA29563B93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AD47-33FE-4ED0-9C93-F2729BE98D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1295-7FA6-4CF4-8B33-5C0727D5CA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FEEE-1C65-4F86-9ED2-D203D35F38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A0F5-8CA9-4605-9400-FBA74F0B78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7927-1C0B-4BAB-88D5-9EDD93F8CB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ED3E-4642-4BB0-B1DF-9DC514CF71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8C0E8-F68B-48F6-B60D-0D61789B66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1CCD3-5AEA-498E-8DC2-96FF1F62AF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D1149-B26A-40B6-8B24-BDA9A192D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B6C5-51B4-4751-A50A-C79AC0F7DD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1786C-59B9-4FD2-AD85-765C717E11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12A6D-759C-4746-AAF7-1735EBD73A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0B39B-0B31-447C-B88C-43E7EE80F4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39221-61A7-4280-90A8-9934D7E781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4C3C7-CABA-4453-8C5D-1E73EDFD07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06E50-87AF-4888-A3C8-E7B010FA55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4E2BC-8E27-450D-A093-E9F8976641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03CDA-E26A-451F-A7AE-95BB0273DE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71CBD-7142-4552-A4CA-BB844BBE67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0F4AF9-D256-487E-AE0B-8C1A283AC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4A01-B052-45BD-8C43-3718016CDDC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AF1EF-CEB0-4A86-868D-E1FB186200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A4796-E286-4BD9-88E2-4C56E23A3F9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48A24-B3A0-4681-BF7D-DA3CC8D806C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BE93CD-9EBF-454B-A020-12D1B2A4F2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9FCB0-A53B-4064-96CD-53B3EF64C19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9CB98-9648-4913-AC37-3294F454F5C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B223E8-B188-4F3F-A291-B9C57426B7A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D5373-9D9A-41A0-BE39-6F4A1AC11B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E8FA8F-C694-43ED-BD82-76BF0915791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5BC3D-867E-4344-AD01-1997170D7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5AB8-63C5-42DF-9851-EA3CB2E28F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02C4F-975A-4402-BA63-DF9C0647EB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7F61A-14B5-442A-A500-1785325E212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69153-436C-4E44-9979-8228BC1F83F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A1AC9-42D2-4BFB-9242-6C7F2D42E5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B634-2EE1-4E1D-8BBA-459642B4764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3D4D0-4857-4912-836C-685E83DCD12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1F26-973F-4A43-A0AC-63763C4D532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5747D-F845-4FC7-9409-8C07DAE831B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42C8C-32FB-4229-A536-5DA980A35F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FA9E-D3F3-4F0F-BAD3-703742D5A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7904-39DA-4855-B03E-54757A2F324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6E2D-6680-487C-B31A-FB06315196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E47E-2D6A-4D59-8449-B1FFD27358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8978-AE88-4AF3-A39F-069546FE2A1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7B760-4249-45BB-8624-C1130824593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BBDFD-691D-4FCB-82BD-B6B67C9CB0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1977E-AD50-4224-BA9B-95D7B218E0A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80888-CF61-4212-BEC9-1C4A8380DEC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F3632-6C77-4720-B5E2-9CDC422F15F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F137D-7A38-4094-8515-F9D865E05FE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98A61-CDFF-40F4-A656-2BF017F9D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ABD4-9CF7-442A-9619-64A3455EDF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1F490-1251-42F4-B27D-25A852E692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7C3D0-B4CB-4850-BD09-D4CEB9DAD5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8A61A-3990-4C4D-AA8A-97C3C39976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529B3-243C-4D56-AA60-647D2B2C88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22508-EF1C-4234-9027-9641B5B760A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50B798-9381-4B9F-9B8D-A4C3C763ED8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01DD3B-91F9-4D2B-A76B-A507E3728A9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53FD8-3701-41E4-899B-C25C5D1E2FB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C8DAB9-65BC-4843-95F3-234EADF06D1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A828A7-5D4D-4D8F-9E08-5988CF0D7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4CF41-EA5C-4B83-A3D3-94531BE8682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3597C9-C3E0-44F7-9DC5-6E60BD3D182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CE7759-D019-4C89-88B9-03D97351895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63B1C8-98BE-4889-B2A9-948959F64E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219C9B-171A-4AF7-8675-25B59A4DBB2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7669B-5E66-4897-9C4F-B84B3A05D16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8F09E5-EEA6-4C6C-BDD3-F897D8F9089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10FF08-5140-427B-A974-60AC7599AB1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9B57B-E7B9-43B3-8ACF-25C6B5EE44D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9B56D-A1BA-405D-BF7B-E8F95077AF5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46D7-DC48-40BC-AF5E-ECA1A4090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D8CDC049-2B02-44AE-9702-0447614352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1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E545FE05-7293-448E-B932-C4BDD1C4E0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2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FF7F921D-BFE3-4DA7-8330-4B1549268A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32A49DDA-6FEB-4926-ABEC-61DD57F710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240B8B0F-627E-4D83-B5E1-39C1144C55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E6C48117-15BB-432F-B10A-1334C0DA01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74B23E17-2555-4BC4-A2C4-7233E21E43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228877D6-65C2-40A6-84C3-0F2D10DE07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A96C3E39-70D7-4186-A396-50D1880741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27A7CDF6-4358-4192-A4F5-1B5AF0D239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8C932C94-4DEF-4244-9286-67E31342AB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01l04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4-</a:t>
            </a:r>
            <a:fld id="{8276EEA9-00EC-4D4D-98DB-06A3D1BE18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B5593C68-E38B-4B67-921E-628A701AEB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both English and Spanish, the verb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numbers are used to tell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anteTodo"/>
          <p:cNvPicPr/>
          <p:nvPr/>
        </p:nvPicPr>
        <p:blipFill>
          <a:blip r:embed="rId1"/>
          <a:stretch/>
        </p:blipFill>
        <p:spPr>
          <a:xfrm>
            <a:off x="736560" y="158112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D74B98A0-ED9D-48F1-95B9-474DC266B7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9" descr="c01l04_p024_01"/>
          <p:cNvPicPr/>
          <p:nvPr/>
        </p:nvPicPr>
        <p:blipFill>
          <a:blip r:embed="rId1"/>
          <a:stretch/>
        </p:blipFill>
        <p:spPr>
          <a:xfrm>
            <a:off x="457200" y="3317760"/>
            <a:ext cx="8229600" cy="24987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k what time it is,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Qué hora e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telling time,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ll other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153BBE19-878B-4901-9068-6F2ED0D971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 English, you express time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r to the half-hour in Spanish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minu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4" descr="c01l04_p024_02"/>
          <p:cNvPicPr/>
          <p:nvPr/>
        </p:nvPicPr>
        <p:blipFill>
          <a:blip r:embed="rId1"/>
          <a:stretch/>
        </p:blipFill>
        <p:spPr>
          <a:xfrm>
            <a:off x="1162080" y="3218040"/>
            <a:ext cx="67644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2376CA7F-300B-4688-AC61-F091002624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6" descr="c01l04_p024_03"/>
          <p:cNvPicPr/>
          <p:nvPr/>
        </p:nvPicPr>
        <p:blipFill>
          <a:blip r:embed="rId1"/>
          <a:stretch/>
        </p:blipFill>
        <p:spPr>
          <a:xfrm>
            <a:off x="457200" y="3290760"/>
            <a:ext cx="8229600" cy="29322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use ei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cuar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qui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press fifteen minutes or quarter past the hour. For thirty minutes or half past the hour, you may use eith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med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trei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10C54215-9A64-4684-A941-99B6D068CC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express time from the half-hour to the hour in Spanish by subtracting minutes or a portion of an hour from the next ho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5" descr="c01l04_p024_04"/>
          <p:cNvPicPr/>
          <p:nvPr/>
        </p:nvPicPr>
        <p:blipFill>
          <a:blip r:embed="rId1"/>
          <a:stretch/>
        </p:blipFill>
        <p:spPr>
          <a:xfrm>
            <a:off x="457200" y="3311640"/>
            <a:ext cx="82296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346D4166-C5B6-492F-8193-91E5CF45A5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k at what time a particular event takes place, use the phra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A qué hora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ate at what time something takes place, use the constru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a(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c01l04_p025_01"/>
          <p:cNvPicPr/>
          <p:nvPr/>
        </p:nvPicPr>
        <p:blipFill>
          <a:blip r:embed="rId1"/>
          <a:stretch/>
        </p:blipFill>
        <p:spPr>
          <a:xfrm>
            <a:off x="457200" y="3738600"/>
            <a:ext cx="82296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6344720D-50EE-4221-B586-D6C3BE17EB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useful words and phrases associated with tell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c01l04_p025_02"/>
          <p:cNvPicPr/>
          <p:nvPr/>
        </p:nvPicPr>
        <p:blipFill>
          <a:blip r:embed="rId1"/>
          <a:stretch/>
        </p:blipFill>
        <p:spPr>
          <a:xfrm>
            <a:off x="1998720" y="2617920"/>
            <a:ext cx="5146560" cy="1488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c01l04_p025_03"/>
          <p:cNvPicPr/>
          <p:nvPr/>
        </p:nvPicPr>
        <p:blipFill>
          <a:blip r:embed="rId2"/>
          <a:stretch/>
        </p:blipFill>
        <p:spPr>
          <a:xfrm>
            <a:off x="1460520" y="3989520"/>
            <a:ext cx="66326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2A2EFA18-B853-4063-8250-BCC592AB2F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1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673200" y="2077920"/>
          <a:ext cx="7877160" cy="4162680"/>
        </p:xfrm>
        <a:graphic>
          <a:graphicData uri="http://schemas.openxmlformats.org/drawingml/2006/table">
            <a:tbl>
              <a:tblPr/>
              <a:tblGrid>
                <a:gridCol w="7877160"/>
              </a:tblGrid>
              <a:tr h="109764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 telling time by completing these sentences. The first item has been done for you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307296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:00 a.m.) Es la ___________ de la mañan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:50 a.m.) Son las tres __________ diez de la mañan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:15 p.m.) Son las cuatro y __________ de la tard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:30 p.m.) Son las ocho y __________ de la noch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:15 a.m.) Son las nueve y quince de la __________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:00 p.m.) Es el __________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:00 a.m.) Son las seis de la __________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21" name="Text Box 20"/>
          <p:cNvSpPr/>
          <p:nvPr/>
        </p:nvSpPr>
        <p:spPr>
          <a:xfrm>
            <a:off x="3687840" y="3352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ff"/>
                </a:solidFill>
                <a:latin typeface="Comic Sans MS"/>
              </a:rPr>
              <a:t>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4-</a:t>
            </a:r>
            <a:fld id="{79C4425C-8554-4CA2-B25D-C250C62F2B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630360" y="2136600"/>
          <a:ext cx="7877160" cy="4145040"/>
        </p:xfrm>
        <a:graphic>
          <a:graphicData uri="http://schemas.openxmlformats.org/drawingml/2006/table">
            <a:tbl>
              <a:tblPr/>
              <a:tblGrid>
                <a:gridCol w="7877160"/>
              </a:tblGrid>
              <a:tr h="1097640">
                <a:tc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 telling time by completing these sentences. (cont'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</a:tr>
              <a:tr h="307296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:05 p.m.) Son las cuatro y cinco de la __________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:00 a.m.) Es la __________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:45 a.m.) Son las cuatro menos __________ de la mañan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:15 a.m.) Son las __________ y cuarto de la mañan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:25 p.m.) Es la una y __________ de la tard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:50 a.m.) Son las __________ menos diez de la mañan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:40 p.m.) Son las once menos veinte de la __________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Jose</cp:lastModifiedBy>
  <dcterms:modified xsi:type="dcterms:W3CDTF">2013-08-18T01:21:58Z</dcterms:modified>
  <cp:revision>63</cp:revision>
  <dc:subject/>
  <dc:title>PowerPoint Presentation</dc:title>
</cp:coreProperties>
</file>